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9DDE1-A6E0-49BB-A2DD-AD4DE4FDA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62982-EFF2-495D-9E7F-60EDC39FC0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401840" y="163440"/>
            <a:ext cx="3801960" cy="28512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68120" y="3014640"/>
            <a:ext cx="6400800" cy="6159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5D520-3A3C-47E3-99AD-3D0957ECA0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257480" y="204840"/>
            <a:ext cx="4213080" cy="3160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79600" y="3474720"/>
            <a:ext cx="59133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047A3-EB80-445A-88D3-602DEEDAF0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57480" y="204840"/>
            <a:ext cx="4213080" cy="3160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79600" y="3474720"/>
            <a:ext cx="59133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CA76B-FFE1-4A67-A175-372CDC8E9E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204840"/>
            <a:ext cx="4213080" cy="3160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79600" y="3474720"/>
            <a:ext cx="59133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DBD17-2719-431F-987D-FB416892BF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57480" y="204840"/>
            <a:ext cx="4213080" cy="3160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79600" y="3474720"/>
            <a:ext cx="59133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16B14-D837-40FA-BD77-48D5203226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57480" y="204840"/>
            <a:ext cx="4213080" cy="3160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79600" y="3474720"/>
            <a:ext cx="59133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0A516-2F01-4A30-9A30-0E7B4F66A7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57480" y="204840"/>
            <a:ext cx="4213080" cy="3160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579600" y="3474720"/>
            <a:ext cx="59133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5CA7C-8A19-4911-92AF-722C9B57D6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013-633F-4F3B-B8B0-3E49005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218-B8B4-46F9-907C-92094689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5C5A-A3B7-4685-830A-78CDE2AE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7CE5-D813-4C77-92ED-78015AD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B827-D76C-4509-8C7B-C5AD2F11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62E60-BAA5-4982-B101-3A7A97E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FB53-B155-4648-8F22-6112E7A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3A6AC-5CCD-458B-95A7-30C578D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B70E-9929-4F1F-B765-A741FDE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6C911-303C-46DC-8F51-68E39A83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5718D-8DA5-4C3A-9059-35091C19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87F68-1639-4E74-ABEB-F5540677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392-A982-4D0B-B5CC-D075232A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F0E50-0C6A-4934-B5B5-EEBE725B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EAC2E-FF6F-40B1-87D0-20599A9B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C35A-9322-44BE-BFB6-7074E2C1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0DCC-C985-4B94-9648-DC8FFC2E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C6537-9D18-4414-A611-84F94F5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E4CB6-E9D4-4CA8-8488-F8BDB8E5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F783F-B2D8-4D26-8C24-EC4651CC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5FB1F-BD78-4C4C-8602-F73ECC51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132C0-65AE-44A8-9C3C-8F313168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21A6A-7CA5-48E5-A8D4-F192DDC6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9DC-6BCD-41E5-856E-A1389D51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79460-6EDD-407B-BFDB-29262184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5818D-3319-4F81-BBF2-3F4115C2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40043-5108-4A23-8984-1D72C752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76E85-B8CF-4C42-844D-0B9A5C64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7131-D954-436B-BFA6-AB75885E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8EBA5-4983-46F0-A059-E7E52070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F7E39-F6D4-4499-85E3-A175805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90DAE-8A52-4BEE-AA0E-E0DE51D2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79EE0-7912-47E0-8799-7CC1C49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58C36-E337-4EB0-AD2B-38102304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46B84-2F6E-48B5-84C3-FFA5C946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61E6-3BA7-4CDB-BC85-CD5AE96C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479F3-1DBD-4774-8602-C21BAC04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6F30E-624C-46FE-B69D-D613BC81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A311A-78E9-436D-AF8F-0EEAFD41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54EA4-6C04-4E5E-A8A0-8E0B92A1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01DBB-EC2B-480E-AFD5-5934CEA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39053-91AB-4FBE-ADCC-5E3B18EE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AB7EA-72AB-4B7D-9B54-3E568F0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F4B43-89EB-4C5E-9B0B-88A9C0E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EF805-7EA9-4DD8-85DA-29823D2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88E2F-0D88-4542-A7CD-1BA330A8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211C3-653A-4C42-92D9-6927FFE8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10544-0CA3-428D-83BD-D5BBE295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57B3C-D819-4E57-9F5F-5B225ABE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C76B7-F2E9-4512-8FAF-0B8497DA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50E3A-A438-4777-9EE2-7D087E49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7FBC2-2218-4F0D-9384-1D00F28B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16D74-542F-4770-AC25-6C0C9B0A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3BD6D-10F4-491B-959A-E05A0124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82E0D-344C-4FF0-B086-067B7470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96191-7A90-483E-B287-3D3160E8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AC396-2598-40B7-8F94-69D2CF80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64C92-56DA-4B95-9C04-F3D15650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A868F-AFF3-405B-974E-2E19CC3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AA1E2-DECD-49FE-A1CF-8436B751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F8CCF-AFB6-4744-8913-BBBF6DE6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1BC-98EB-4ED6-A12D-32879FD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CAB-579D-46A6-8F42-C42073C0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2C31-341F-47A8-B8AA-0EB6A956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6564-7053-44A1-BB36-CCEB3586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A0F8-DFC8-4A82-83EC-4350DD66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6FA-1724-4EC1-9EA7-09BEE28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B569-37BB-446D-9B07-53816C1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70F3-FFDD-4FE4-A479-B1FAA7D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DE68-441B-4BC0-84D5-1A66B4F2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8856-A6D6-4CF7-B181-DAFFFEA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BF71-3BCA-4DE5-8D3C-C0ED452F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E8A3-D6BD-4DB8-9434-F2F2D08E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CE72-B924-4D9C-8CDC-1C3FD70C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BFDD-2F36-4C7E-9DF4-452FB001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40BE-56A4-4C24-B07C-704CA916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9E0-9CA4-45A7-9771-A09E0D8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7AF-28BB-465E-B8FA-2EA4BE6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D15E-76B6-4ECD-99D4-A12C4417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FE40-79BC-43E6-BBEE-DD94F060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237B-0DFA-40DB-8353-C051F156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B267-50CF-4BD4-A972-2CFEFE79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D5C1-74CA-4E1F-81B9-015EACC5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681D-4101-4CDA-9F0F-97665C05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86F9-DE7E-4F6C-AD02-8935C48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E5C7-3D47-4B24-9191-1AB07EF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F52D-A798-4C33-9E42-6B7C87B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909-35EC-4802-AD41-BA6880F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79DC-E4EB-41AC-B9F8-E2BE0EA1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E0304-99AA-4F67-84EB-5FE8A798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CFE6-89A7-42C8-A223-5839FB7E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7DB7-F511-4847-AF0F-3F5F35AF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C0B0A-FE7A-4B61-958D-D27A5EFA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2FD0-402C-4586-A59C-84604F8C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11B9-B2BA-4D47-9912-49F91B70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B24F0-B03B-49B4-9B16-1A088C36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64F1-4E2C-4822-BA95-9BAEDAB8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EEA6-A9C0-4636-A171-B1305F29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FCA-F85D-42C3-98BD-CC5F263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404C-B690-4E5F-81CD-A0A3BCB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29C4-8AFE-4997-B28A-3BC06A0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A4B6-00D1-40D7-AFDD-D6261F64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BAC2-F4D1-474A-860E-65CF4AF5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A209-E202-4CB0-A5FE-1C46AD5A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8DCF-D751-43D6-8BD4-B8485FD7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2655-F826-4A6F-A950-3EF3968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9627-A421-49DA-ACA2-D76B3AD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71CA2-1C86-43E9-B905-EA3A79EE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93807-F2E0-4300-8A7C-A72D6688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7A8-C619-40A7-84A2-A80F895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4C61-ED94-495A-A3EC-79A170D0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1C269-84D4-4D69-B340-2F09B388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46E4-9140-44A7-9BFE-9CF2D9E6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68F6C-9699-401D-B617-BD641F5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DE51-EF4E-413B-A4BE-A0466674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0C05D-13F3-48A0-B2EA-91AF7C7F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635B-663D-45D5-849F-315515C1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7371-B88A-4D26-B905-3496E22A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5A4C-4510-4462-A111-4C01A45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CFE6-48D8-41D9-9146-ED2B368A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D0DFD-78F8-406D-A8DD-5022EA93D66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487E7-A113-49E8-8C8F-48BA64EA7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8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D7C9E-D095-499D-8E01-879CE5C7EA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39E91-9F74-4244-A03D-EFCE342B65B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2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B4065-8CA8-440C-8959-60BDF70E427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5FDD6-F305-42CC-B9F9-C9D36A79E3A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6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85725-E95A-4871-BC24-DDA8215D897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7B8F9-C530-46D6-BFFF-C918BB556CA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3677A-2123-4D5E-BA18-B7F947F9AFF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8418C-776A-45B6-AD3A-68470AD2670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ffice of Strategic Planning and Development Effectiven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7351560" y="5756400"/>
            <a:ext cx="1552680" cy="96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7351560" y="5832360"/>
            <a:ext cx="1552680" cy="771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222C3-B739-4F91-AF37-98C5F135C2A9}" type="datetime">
              <a:rPr b="0" lang="en-US" sz="16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4BD0C-2B30-4E81-B8F0-9461677E1363}" type="slidenum">
              <a:rPr b="0" lang="en-US" sz="2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7294680" y="5958000"/>
            <a:ext cx="1671480" cy="657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D:\DATA.IDB\Documents\CARLOS_AG\01-SPD\00-IDB-identity\logos\BID_LOGOS_BLANCO\BID_LOGOS_BLANCO\BID_LOGOS_BLANCO\BID_english\bid_slogan_eng\bid_slogan_eng-01.png"/>
          <p:cNvPicPr/>
          <p:nvPr/>
        </p:nvPicPr>
        <p:blipFill>
          <a:blip r:embed="rId4"/>
          <a:stretch/>
        </p:blipFill>
        <p:spPr>
          <a:xfrm>
            <a:off x="-98280" y="2006640"/>
            <a:ext cx="3678120" cy="260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carlosag\Desktop\Twitter_logo_white.png"/>
          <p:cNvPicPr/>
          <p:nvPr/>
        </p:nvPicPr>
        <p:blipFill>
          <a:blip r:embed="rId5"/>
          <a:stretch/>
        </p:blipFill>
        <p:spPr>
          <a:xfrm>
            <a:off x="561960" y="4684680"/>
            <a:ext cx="293760" cy="2397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"/>
          <p:cNvSpPr/>
          <p:nvPr/>
        </p:nvSpPr>
        <p:spPr>
          <a:xfrm>
            <a:off x="959040" y="462924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MS PGothic"/>
              </a:rPr>
              <a:t>#devthat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Group 11" descr=""/>
          <p:cNvPicPr/>
          <p:nvPr/>
        </p:nvPicPr>
        <p:blipFill>
          <a:blip r:embed="rId6"/>
          <a:stretch/>
        </p:blipFill>
        <p:spPr>
          <a:xfrm>
            <a:off x="549360" y="4297320"/>
            <a:ext cx="31572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4"/>
          <p:cNvSpPr/>
          <p:nvPr/>
        </p:nvSpPr>
        <p:spPr>
          <a:xfrm>
            <a:off x="541440" y="4108320"/>
            <a:ext cx="329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2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CC911-A44C-4ECC-B980-93FC4C484E95}" type="datetime">
              <a:rPr b="0" lang="en-US" sz="16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2C0B6-0B31-4F41-AFC5-7448857B0B3E}" type="slidenum">
              <a:rPr b="0" lang="en-US" sz="2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6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5800B-59E4-4618-87A5-D3A7A954D9C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3E435-E26B-4FC9-8EA2-07C541C2CFE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E2814-42D0-4312-8B69-E515E77750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71F48-5420-4F47-9472-3E77ECC7459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44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85C1B-3F97-476E-89AB-167227EC68B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6469D-3023-4347-8ECE-C5F6CCC38EB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sustainabledevelopment.un.org/partnership/?p=12300" TargetMode="External"/><Relationship Id="rId3" Type="http://schemas.openxmlformats.org/officeDocument/2006/relationships/hyperlink" Target="https://www.iadb.org/en/news/news-releases/2015-02-24/partnership-for-sustainable-energy-for-the-americas%2C11073.html" TargetMode="External"/><Relationship Id="rId4" Type="http://schemas.openxmlformats.org/officeDocument/2006/relationships/hyperlink" Target="https://www.iadb.org/en/sector/water-and-sanitation/founds-partnership/home" TargetMode="External"/><Relationship Id="rId5" Type="http://schemas.openxmlformats.org/officeDocument/2006/relationships/hyperlink" Target="https://www.ndcinvest.org/" TargetMode="External"/><Relationship Id="rId6" Type="http://schemas.openxmlformats.org/officeDocument/2006/relationships/hyperlink" Target="https://www.iadb.org/en/news/news-releases/2017-11-14/idb-and-uk-establish-infrastructure-fund%2C11956.html" TargetMode="Externa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iadb.org/en/project/CO-L1166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D:\DATA.IDB\Documents\CARLOS_AG\01-SPD\SPD-presentations\00-template\new-English\covers-back-covers\IDB-white.pn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3"/>
          <p:cNvSpPr/>
          <p:nvPr/>
        </p:nvSpPr>
        <p:spPr>
          <a:xfrm>
            <a:off x="258840" y="6424560"/>
            <a:ext cx="469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ffice of Strategic Planning and Development Effectiveness (SP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itle 1"/>
          <p:cNvSpPr/>
          <p:nvPr/>
        </p:nvSpPr>
        <p:spPr>
          <a:xfrm>
            <a:off x="258840" y="2428920"/>
            <a:ext cx="82677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 Black"/>
                <a:ea typeface="Arial"/>
              </a:rPr>
              <a:t>The Inter-American Development Bank Group  (IDBG) and the 2030 Sustainable Development 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258840" y="5807160"/>
            <a:ext cx="17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"/>
          <p:cNvSpPr/>
          <p:nvPr/>
        </p:nvSpPr>
        <p:spPr>
          <a:xfrm>
            <a:off x="5737320" y="425916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April 20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8"/>
          <p:cNvSpPr/>
          <p:nvPr/>
        </p:nvSpPr>
        <p:spPr>
          <a:xfrm>
            <a:off x="374760" y="3675240"/>
            <a:ext cx="44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79646"/>
                </a:solidFill>
                <a:latin typeface="Arial"/>
              </a:rPr>
              <a:t>Inputs for 2018 High-level Political Forum on Sustainable Develop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0" descr="C:\Users\carlosag\Downloads\iStock_000012703852_Medium (1).jpg"/>
          <p:cNvPicPr/>
          <p:nvPr/>
        </p:nvPicPr>
        <p:blipFill>
          <a:blip r:embed="rId1"/>
          <a:srcRect l="0" t="0" r="0" b="67071"/>
          <a:stretch/>
        </p:blipFill>
        <p:spPr>
          <a:xfrm>
            <a:off x="0" y="0"/>
            <a:ext cx="9144000" cy="2995560"/>
          </a:xfrm>
          <a:prstGeom prst="rect">
            <a:avLst/>
          </a:prstGeom>
          <a:ln w="0">
            <a:noFill/>
          </a:ln>
        </p:spPr>
      </p:pic>
      <p:sp>
        <p:nvSpPr>
          <p:cNvPr id="577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2B0AE-9FCB-48AC-8D9B-FC7EE4675291}" type="slidenum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traight Connector 10"/>
          <p:cNvSpPr/>
          <p:nvPr/>
        </p:nvSpPr>
        <p:spPr>
          <a:xfrm>
            <a:off x="371520" y="4216320"/>
            <a:ext cx="805644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Content Placeholder 2"/>
          <p:cNvSpPr/>
          <p:nvPr/>
        </p:nvSpPr>
        <p:spPr>
          <a:xfrm>
            <a:off x="120600" y="1114560"/>
            <a:ext cx="68263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Black"/>
                <a:ea typeface="Arial"/>
              </a:rPr>
              <a:t>1.  Fi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82" name="Picture 2" descr="D:\DATA.IDB\Documents\CARLOS_AG\01-SPD\SPD-presentations\00-template\new-English\covers-back-covers\IDB-white.png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itle 1"/>
          <p:cNvSpPr/>
          <p:nvPr/>
        </p:nvSpPr>
        <p:spPr>
          <a:xfrm>
            <a:off x="309600" y="274680"/>
            <a:ext cx="855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073"/>
                </a:solidFill>
                <a:latin typeface="Arial Black"/>
                <a:ea typeface="Arial"/>
              </a:rPr>
              <a:t>IDBG has made internal changes to better support the SD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Content Placeholder 2"/>
          <p:cNvSpPr/>
          <p:nvPr/>
        </p:nvSpPr>
        <p:spPr>
          <a:xfrm>
            <a:off x="309600" y="1258920"/>
            <a:ext cx="859788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  <a:ea typeface="Arial"/>
              </a:rPr>
              <a:t>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The IDBG has made changes to maximize its financial capacity (e.g., balance sheet optimiz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The IDBG has ramped up efforts to mobilize and crowd-in private fin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  <a:ea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A new cross-sectoral department was established in 2016 to mainstream sustainability across the bank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A public-private coordination team was established to improve delivery of integrated public-private solutions and catalyzation of private sector fin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  <a:ea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The IDBG has developed along with other Multilateral Development Banks and the IMF a harmonized methodology to track and report climate finance and private finance mobi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The IDBG treats climate change and environmental sustainability as cross-cutting issues that are increasingly mainstreamed in the project design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85EB8-761D-4D20-831A-A0289351193D}" type="slidenum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90" name="Picture 2" descr="D:\DATA.IDB\Documents\CARLOS_AG\01-SPD\SPD-presentations\00-template\new-English\covers-back-covers\IDB-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itle 1"/>
          <p:cNvSpPr/>
          <p:nvPr/>
        </p:nvSpPr>
        <p:spPr>
          <a:xfrm>
            <a:off x="136440" y="30240"/>
            <a:ext cx="7875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073"/>
                </a:solidFill>
                <a:latin typeface="Arial Black"/>
                <a:ea typeface="Arial"/>
              </a:rPr>
              <a:t>IDBG’s strategic platform supports the SD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Content Placeholder 2"/>
          <p:cNvSpPr/>
          <p:nvPr/>
        </p:nvSpPr>
        <p:spPr>
          <a:xfrm>
            <a:off x="0" y="1376280"/>
            <a:ext cx="86868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1" marL="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  <a:ea typeface="Arial"/>
              </a:rPr>
              <a:t>Update to the Institutional Strategy 2010-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32796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The IDBG’s strategy focuses on addressing the region’s key development challenges and cross-cutting issues, which are each aligned to at least one SDG— with an emphasis on keeping countries in the driver’s se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747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  <a:ea typeface="Arial"/>
              </a:rPr>
              <a:t>Corporate Results 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32796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The IDBG’s Corporate Results Framework (CRF) supports measuring IDBG’s contribution to achieving results related to the SD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327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  <a:ea typeface="Arial"/>
              </a:rPr>
              <a:t>Country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32796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The IDBG’s revised Country Strategy Guidelines emphasize several elements that reflect the comprehensive nature of the SDGs and the required partnerships needed to achieve them (e.g., integrated approaches, public-private sector synergi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9C784-E6D8-4444-8810-0D501A3F9514}" type="slidenum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98" name="Picture 2" descr="D:\DATA.IDB\Documents\CARLOS_AG\01-SPD\SPD-presentations\00-template\new-English\covers-back-covers\IDB-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93600" y="128520"/>
            <a:ext cx="88552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073"/>
                </a:solidFill>
                <a:latin typeface="Arial Black"/>
                <a:ea typeface="Arial"/>
              </a:rPr>
              <a:t>Alignment of the SDGs and the IDBG’s Update to the Institutional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1473120" y="1225440"/>
            <a:ext cx="53056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35D56-D65D-4103-AB88-F558788C0BE4}" type="slidenum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606" name="Picture 2" descr="D:\DATA.IDB\Documents\CARLOS_AG\01-SPD\SPD-presentations\00-template\new-English\covers-back-covers\IDB-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itle 1"/>
          <p:cNvSpPr/>
          <p:nvPr/>
        </p:nvSpPr>
        <p:spPr>
          <a:xfrm>
            <a:off x="144360" y="-144360"/>
            <a:ext cx="8855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073"/>
                </a:solidFill>
                <a:latin typeface="Arial Black"/>
                <a:ea typeface="Arial"/>
              </a:rPr>
              <a:t>The IDBG is engaged in partnerships and special programs that support the SD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Content Placeholder 2"/>
          <p:cNvSpPr/>
          <p:nvPr/>
        </p:nvSpPr>
        <p:spPr>
          <a:xfrm>
            <a:off x="169920" y="731880"/>
            <a:ext cx="87026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A number of IDBG partnerships initiated prior to the launch of the SDGs remain active and aim to support specific SDGs. These include, for example, t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Global Waste Water Initiative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(which supports SDG 6), t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ustainable Energy for All initiative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(which supports SDG 7),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Energy and Water Efficiency Partnerships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(which supports both SDG 6 and SDG 7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In addition, since the launch of the SDGs, the Bank has promoted a number of partnerships and innovative financing models in support of the 2030 Sustainable Development Agenda. For exampl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In 2016, the IDB launche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NDC Invest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– a one-stop shop to help countries meet their climate plan goals (Nationally Determined Contributions – NDCs) and deliver flexible support to address the unique needs of each country. The shop includes a variety of elements to support countries – from helping them analyze policies and carry out project preparation studies to accessing concessional resources and developing mobilization strategies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In 2017, the IDB Group and the UK partnered to create t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UK Sustainable Infrastructure Program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in recognition of the need to catalyze private sector investment to help address the region’s infrastructure gap in a sustainable way. This program will provide a wide range of instruments — including grants for technical cooperation and blended finance for loans, equity and guarantees — to fully address barriers to private investment and respond flexibly to borrowing countries’ priorities and need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8DF88-73E8-441D-8C7B-C9871C46D5BC}" type="slidenum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614" name="Picture 2" descr="D:\DATA.IDB\Documents\CARLOS_AG\01-SPD\SPD-presentations\00-template\new-English\covers-back-covers\IDB-white.pn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Title 1"/>
          <p:cNvSpPr/>
          <p:nvPr/>
        </p:nvSpPr>
        <p:spPr>
          <a:xfrm>
            <a:off x="144360" y="-144360"/>
            <a:ext cx="7875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073"/>
                </a:solidFill>
                <a:latin typeface="Arial Black"/>
                <a:ea typeface="Arial"/>
              </a:rPr>
              <a:t>Example 1. Sustainability in Colo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Content Placeholder 2"/>
          <p:cNvSpPr/>
          <p:nvPr/>
        </p:nvSpPr>
        <p:spPr>
          <a:xfrm>
            <a:off x="185760" y="731880"/>
            <a:ext cx="83995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IDBG’s support to the SDGs is anchored in supporting its countries as they translate the agenda into meaningful country-level targets, policies, and program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In Colombia, for example, the IDBG supports the country-wide initiative known as Sustainable Colombia (</a:t>
            </a:r>
            <a:r>
              <a:rPr b="0" i="1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Colombia Sostenible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), which is based on the SDGs and takes a systemic approach to addressing rural development, climate change, environmental sustainability, and social inequality in areas characterized by armed conflict through multi-sectorial solu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In 2017, a $100 million IDB loan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CO-L1166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) to support the Sustainable Colombia Program (SCP) was approved. The SCP targets 170 municipalities affected by the country’s long-running civil conflict, which came to an end in 2016. Colombia’s post-conflict zones have experienced disproportionate poverty and environmental destruction, including deforestation. This loan contributes directly to a range of goals including economic development (SDG 8: decent work and economic growth), climate change (SDG 13: climate action), and restoration of natural resources (SDG 15: life on land), among oth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B2971-64A2-4C0F-98A8-9265A2AC4133}" type="slidenum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622" name="Picture 2" descr="D:\DATA.IDB\Documents\CARLOS_AG\01-SPD\SPD-presentations\00-template\new-English\covers-back-covers\IDB-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Title 1"/>
          <p:cNvSpPr/>
          <p:nvPr/>
        </p:nvSpPr>
        <p:spPr>
          <a:xfrm>
            <a:off x="144360" y="-144360"/>
            <a:ext cx="82980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073"/>
                </a:solidFill>
                <a:latin typeface="Arial Black"/>
                <a:ea typeface="Arial"/>
              </a:rPr>
              <a:t>Example 2. Coordinating stakeholders for Costa 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Content Placeholder 2"/>
          <p:cNvSpPr/>
          <p:nvPr/>
        </p:nvSpPr>
        <p:spPr>
          <a:xfrm>
            <a:off x="297000" y="1012680"/>
            <a:ext cx="850104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The holistic nature of the 2030 Agenda implies a vision of regional and global public goods that requires coordination among diverse MDBs and stakeholders, especially the private secto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An example of IDBG’s work facilitating this type of coordination is the recently completed Reventazon Hydroelectric Project in Costa Rica (CR-L1056). This is an IDB Group-led initiative worth $1.345 billion that benefited from a $250 million IDB Group sovereign-guarantee loan and A/B loan package (in other words, a loan offered in partnership with another financian institution) valued at $335 million from IDB Invest (the Group’s private sector lending window); and an additional $579 million from other MDBs and investors, including the International Finance Corporatio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Given the level of resources required for Reventazon, securing the involvement of a wide range of parties was critical to the project’s successful financing and executio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The hydroelectric plant now supplies 10 per cent of Costa Rica’s electric generation capacity (SDG 7: affordable and clean energy) It is also a major step towards that country’s goal of carbon neutrality (SDG 13: climate action), and includes a jaguar corridor to protect critical habitats adjacent to the project site (SDG 15: life on land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46CE6-B704-4819-825C-AB28D39C16DE}" type="slidenum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630" name="Picture 2" descr="D:\DATA.IDB\Documents\CARLOS_AG\01-SPD\SPD-presentations\00-template\new-English\covers-back-covers\IDB-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Title 1"/>
          <p:cNvSpPr/>
          <p:nvPr/>
        </p:nvSpPr>
        <p:spPr>
          <a:xfrm>
            <a:off x="144360" y="-144360"/>
            <a:ext cx="82980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5073"/>
                </a:solidFill>
                <a:latin typeface="Arial Black"/>
                <a:ea typeface="Arial"/>
              </a:rPr>
              <a:t>IDBG’s SDG website shows how projects contribute to each SD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1" descr=""/>
          <p:cNvPicPr/>
          <p:nvPr/>
        </p:nvPicPr>
        <p:blipFill>
          <a:blip r:embed="rId2"/>
          <a:stretch/>
        </p:blipFill>
        <p:spPr>
          <a:xfrm>
            <a:off x="1727280" y="1276200"/>
            <a:ext cx="5029200" cy="4534200"/>
          </a:xfrm>
          <a:prstGeom prst="rect">
            <a:avLst/>
          </a:prstGeom>
          <a:ln w="0">
            <a:noFill/>
          </a:ln>
        </p:spPr>
      </p:pic>
      <p:sp>
        <p:nvSpPr>
          <p:cNvPr id="633" name="Subtitle 2"/>
          <p:cNvSpPr/>
          <p:nvPr/>
        </p:nvSpPr>
        <p:spPr>
          <a:xfrm>
            <a:off x="601560" y="6175440"/>
            <a:ext cx="3505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c3c3c"/>
                </a:solidFill>
                <a:latin typeface="Arial Black"/>
                <a:ea typeface="MS PGothic"/>
              </a:rPr>
              <a:t>https://crf.iadb.org/sd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D:\DATA.IDB\Documents\CARLOS_AG\01-SPD\SPD-presentations\00-template\new-English\covers-back-covers\FONDOS SPD\SPD4-01.png"/>
          <p:cNvPicPr/>
          <p:nvPr/>
        </p:nvPicPr>
        <p:blipFill>
          <a:blip r:embed="rId1"/>
          <a:stretch/>
        </p:blipFill>
        <p:spPr>
          <a:xfrm>
            <a:off x="22320" y="25560"/>
            <a:ext cx="9097920" cy="6805440"/>
          </a:xfrm>
          <a:prstGeom prst="rect">
            <a:avLst/>
          </a:prstGeom>
          <a:ln w="0">
            <a:noFill/>
          </a:ln>
        </p:spPr>
      </p:pic>
      <p:sp>
        <p:nvSpPr>
          <p:cNvPr id="635" name="TextBox 1"/>
          <p:cNvSpPr/>
          <p:nvPr/>
        </p:nvSpPr>
        <p:spPr>
          <a:xfrm>
            <a:off x="813240" y="1876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 Black"/>
                <a:ea typeface="Arial Black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F162D-8DBD-4D30-BC35-8EF925F9909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ubtitle 2"/>
          <p:cNvSpPr/>
          <p:nvPr/>
        </p:nvSpPr>
        <p:spPr>
          <a:xfrm>
            <a:off x="987480" y="4162320"/>
            <a:ext cx="3505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c3c3c"/>
                </a:solidFill>
                <a:latin typeface="Arial Black"/>
                <a:ea typeface="MS PGothic"/>
              </a:rPr>
              <a:t>erinb@iadb.or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c3c3c"/>
                </a:solidFill>
                <a:latin typeface="Arial Black"/>
                <a:ea typeface="MS PGothic"/>
              </a:rPr>
              <a:t>fjcastro@iadb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8:54:59Z</dcterms:created>
  <dc:creator>nialvarez</dc:creator>
  <dc:description/>
  <dc:language>en-US</dc:language>
  <cp:lastModifiedBy>Erin Bautista</cp:lastModifiedBy>
  <cp:lastPrinted>2015-12-11T00:23:09Z</cp:lastPrinted>
  <dcterms:modified xsi:type="dcterms:W3CDTF">2018-05-07T20:13:50Z</dcterms:modified>
  <cp:revision>2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